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404C-A17B-42FA-8090-89EFDFC6F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23CC-979B-4275-ADD8-FA87FB6B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E45-241E-4C05-A9C9-F1EF17820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37D5-CBE3-47F2-873C-8526700C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EA2C-834C-44F3-938E-E334ED7B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104F-A11B-4477-9C3D-1A1EEA3C3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7F92-22AC-45DB-B79D-DC8F57FC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CD14-560C-40B3-81B4-253B41C89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6F20-7FC3-45D3-9D34-822DE3D01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360" y="3922200"/>
            <a:ext cx="7467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D160-2E48-4EE9-A5C9-0C4F34C4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6800" y="129528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360" y="392220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6800" y="392220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B13F-EFDF-4C2D-9492-F756195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240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400" y="1295280"/>
            <a:ext cx="240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0440" y="1295280"/>
            <a:ext cx="240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360" y="3922200"/>
            <a:ext cx="240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400" y="3922200"/>
            <a:ext cx="240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0440" y="3922200"/>
            <a:ext cx="240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25CD-FB04-4D22-96F1-2F2BD0DFD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A69C-CD48-4512-BE6D-5912CB0A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E1E3-B357-4D30-B062-D16FDB8E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643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6800" y="1295280"/>
            <a:ext cx="3643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2A87-BF16-4507-875A-D53C8CC9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5E30-E651-4A84-A4BC-D6AED838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30F4-F857-47BB-9A02-89075A22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6800" y="1295280"/>
            <a:ext cx="3643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360" y="392220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A0DB-06D0-4AB2-9A49-EF6E5E0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643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6800" y="129528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6800" y="392220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B75E-2C43-49E5-BD5B-6971400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6800" y="1295280"/>
            <a:ext cx="3643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3922200"/>
            <a:ext cx="7467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32A30-14F4-4867-BF13-982DAC22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62A20926-0EBA-4059-972B-B3FC90BD47D5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486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330EC2-7F47-4D49-9987-18DF91B47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rtfolio Website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br>
              <a:rPr sz="3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oan Q. Stud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stupub.stjohns.edu/&lt;username&gt;/por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8C8709F3-C5C3-4E94-AAD8-A3980EB5B0C0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2FA10B-BF35-4EC2-8F80-6A1DF145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569B412D-C212-4744-93A6-D2C1C91EF2F3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A71A05-D14A-4D33-BDA5-FF7D0B031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eer Exercise Resul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1 - Three Most Interesting Car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are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are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are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2 - Most Interesting Job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ompan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job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789FFF8F-AF6C-4428-A924-AA2231E9D863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F2DBE0-6C7E-4D62-9B49-4FC9E58A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rtfolio Exercise 2 - Wri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I would like the interviewer to 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show me an example of your creative writing skills? 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tical writing skills? 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knowledge of Microsoft Word? 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other appropriat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above question for your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here the name (short title) of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dprocessed document that best illustrates this sk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your Wordprocessed Documents webpage and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B7BCAD14-0519-4397-A815-0C5F84CE24D7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492629-664D-4CFB-A3BE-C97281BDB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rtfolio Exercise 3 - Workboo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I would like the interviewer to 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show me an example of your creative workbook skills? 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tical workbook skills? 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knowledge of Microsoft Excel? 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other appropriat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above question for your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here the name (short title) of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book that best illustrates this sk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your Workbooks webpage and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8C252EBF-97A8-40B5-B2E0-D80C967FF3B1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CD2D05-0F66-4DFF-A3EF-9CF0C8FF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rtfolio Exercise 4 - Showcas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I would like the interviewer to 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your best work piece, and why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ther appropriat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here the name (short title) of your b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i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your Showcase webpage and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96D09D5D-EDA5-4E21-8C53-937D3934528C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939A78-41E7-4720-8671-4281D9A05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atabase Ex 1 - Requirem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 nam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Thomson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Tit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pital Markets Intelligence Assoc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ibiliti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leted all but the follow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client companies for stock price activity, volume, news impacting stock, broader market activity drivers, institutional activity, and technical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Pos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ager of five Capital Markets Intelligence (CMI)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and paste Items I.A, B, D, and E from your Database Exercise 1 to thi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00B5D177-8EC7-4F24-B64E-5EC78035962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8A9AD8-B3E0-4F99-B6D6-E903290B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rtfolio Ex 5 - Writing Cente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from visiting the Writing Ce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685800" y="64008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: </a:t>
            </a:r>
            <a:fld id="{56313F7B-75AF-4D9B-BD3D-7C1E6A83F617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5486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505FC1-250D-4FA3-847E-12BCC6A1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rtfolio Ex 6 - Database Desig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I would like the interviewer to 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atabase analysis and/or design skills do you hav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ther appropriat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here the name (short title) of your 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your Creative webpage and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5:42:23Z</dcterms:created>
  <dc:creator>Patrick Lyons</dc:creator>
  <dc:description/>
  <dc:language>en-US</dc:language>
  <cp:lastModifiedBy>Patrick</cp:lastModifiedBy>
  <dcterms:modified xsi:type="dcterms:W3CDTF">2010-01-22T03:04:18Z</dcterms:modified>
  <cp:revision>89</cp:revision>
  <dc:subject/>
  <dc:title>Portfolio Website Presentation</dc:title>
</cp:coreProperties>
</file>